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E29-32FA-4031-8439-66181A02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555-CCF6-47A6-85F6-D403BC2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035-E42F-4235-814D-74298EE1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7F8-CB9C-4F01-A859-DD4B28DB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DFA-D171-43FA-8703-F11FDEE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54F-AAA5-4D31-B41C-C8C79C3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EA1-A18F-4785-931B-3CDDFCD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7EF-7383-4F3C-ADCC-D2935BE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C89-9D5D-4E4F-9033-30CBA3B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6AB-5BD4-44C3-9743-41C6761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DE6-ED66-4E28-B01F-CAB018E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0CA-AD78-4B1B-AC1F-1852520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676-85C7-4116-983D-02A30A448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rfulleredgehill@yahoo.co.uk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revise colour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to learn 12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toca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say which countries you woud like to / wouldn’t like to vis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156360" y="836640"/>
            <a:ext cx="125712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15636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15636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156360" y="357336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15636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15636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189000"/>
            <a:ext cx="835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airs, decide which European country has each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551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9079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653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paí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l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51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9079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 Bre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371628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es Bajos / Ho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530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 de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8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627520" y="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2720" y="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6000" y="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9920" y="1144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13200" y="1144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14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62360" y="21207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9810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98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84320" y="10414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393372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06864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86064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29242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51664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65300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551664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65300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295280" cy="64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152424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1524240" cy="64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152424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1524240" cy="64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88000" y="1628640"/>
            <a:ext cx="1257480" cy="6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6516720" y="30686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588000" y="4292640"/>
            <a:ext cx="129564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6588000" y="5084640"/>
            <a:ext cx="1295640" cy="64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189000"/>
            <a:ext cx="835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English and the Spanish, do not draw the fl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177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421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8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l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530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17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 Bre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24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306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573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es Bajos / Ho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s de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765000"/>
            <a:ext cx="24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877000"/>
            <a:ext cx="7200720" cy="101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gus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visi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 would like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me gustaría visitar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 wouldn’t like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404640"/>
            <a:ext cx="8640720" cy="64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rite a DETAILED description of your family and pets. Type it up and e-mail it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rfulleredgehill@yahoo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Wedneday 2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following populations out i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will be available on www.edgehillcollege.typepa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stria – 8million 200 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lgium – 5million 5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- 52million 5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y – 34million 7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in – 40million 400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– 60 million 900 thous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paí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7:12:58Z</dcterms:created>
  <dc:creator>Owner1</dc:creator>
  <dc:description/>
  <dc:language>en-US</dc:language>
  <cp:lastModifiedBy>Owner1</cp:lastModifiedBy>
  <dcterms:modified xsi:type="dcterms:W3CDTF">2008-10-14T07:29:04Z</dcterms:modified>
  <cp:revision>2</cp:revision>
  <dc:subject/>
  <dc:title>Slide 1</dc:title>
</cp:coreProperties>
</file>